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34E9-D800-42FD-AA09-BCDF1ACBF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9803-08D9-4096-8BA8-F1DB3A0D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406D-19A2-4AE8-9CCD-2B2B3984F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3F20-D6DC-4376-A94A-2136C1BFF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A266-B146-4BB3-BD83-6B6D98347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4D77-9846-461D-8F3C-45327DFE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2A0B-A79C-4D05-A1F8-93A32D31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4864-4A3D-42B6-9F8B-9FB10B2E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C3D4-BC84-4E4F-BE70-97F787C3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180A-5D69-40C9-96A5-D87D8CEF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1D94-AFAE-4A89-B4E9-393FB48F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6499-3F47-4561-8329-018E2C0A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58B5-424C-4EE5-8A28-D071BBA0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00E6-1E84-4362-9A9F-C9C27A3A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E47C-FEEF-4892-A97D-2846527F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01A2-115C-4E18-8C8F-965A949D0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5190-B4FD-46ED-AF7D-8347576C4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1187-E912-4CCE-87AF-58E4DCC1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62D1-C8A4-4D41-B727-06F42BD9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42CF-A91E-4221-A9FA-4407B654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C913-D49A-4D55-8C5C-8D397878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3B1D-0C40-4E35-94AC-6350CA46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EDE8-35EB-4B82-A8AF-F5FFA4EA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71B7-8061-45C3-8A59-1B844879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8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808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CDB7-C3B3-46E1-9B4A-5E776C03A0E6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D8B7-B7DC-4D70-9878-994F3AC9B1F1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808080"/>
              </a:buClr>
              <a:buSzPct val="90000"/>
              <a:buFont typeface="Wingdings" charset="2"/>
              <a:buChar char="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2285640"/>
            <a:ext cx="556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c2c1c"/>
                </a:solidFill>
                <a:latin typeface="Trebuchet MS"/>
              </a:rPr>
              <a:t>Measurement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ythagorean Relationship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Trebuchet MS"/>
              </a:rPr>
              <a:t>Pythagorean relationship</a:t>
            </a:r>
            <a:endParaRPr b="0" i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4647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2057400"/>
            <a:ext cx="2057400" cy="297180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10080" y="4952880"/>
            <a:ext cx="15264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10080" y="4267080"/>
            <a:ext cx="15264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10080" y="3581280"/>
            <a:ext cx="15264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10080" y="2819520"/>
            <a:ext cx="15264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1981080"/>
            <a:ext cx="15264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2743200"/>
            <a:ext cx="15264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3276720"/>
            <a:ext cx="15228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3886200"/>
            <a:ext cx="15228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4952880"/>
            <a:ext cx="15264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10280" y="4343400"/>
            <a:ext cx="15264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95880" y="4952880"/>
            <a:ext cx="15264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81680" y="4952880"/>
            <a:ext cx="15264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86400" y="4648320"/>
            <a:ext cx="38088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02960" y="266688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2c1c"/>
                </a:solidFill>
                <a:latin typeface="Arial"/>
              </a:rPr>
              <a:t>hypoten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2057400"/>
            <a:ext cx="2057400" cy="2971800"/>
          </a:xfrm>
          <a:prstGeom prst="line">
            <a:avLst/>
          </a:prstGeom>
          <a:ln w="57240">
            <a:solidFill>
              <a:srgbClr val="fc2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726080" y="54100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2c1c"/>
                </a:solidFill>
                <a:latin typeface="Arial"/>
              </a:rPr>
              <a:t>le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86400" y="5029200"/>
            <a:ext cx="2057400" cy="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486400" y="2057040"/>
            <a:ext cx="0" cy="297180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105520" y="5181120"/>
            <a:ext cx="1066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105520" y="403848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2590920"/>
            <a:ext cx="4114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In a right triangle, the sum of the squares (area) of the legs is equal to the square (area) of the hypoten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Trebuchet MS"/>
              </a:rPr>
              <a:t>Pythagorean relationship</a:t>
            </a:r>
            <a:endParaRPr b="0" i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"/>
          <p:cNvSpPr/>
          <p:nvPr/>
        </p:nvSpPr>
        <p:spPr>
          <a:xfrm>
            <a:off x="5943600" y="48769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c2c1c"/>
                </a:solidFill>
                <a:latin typeface="Arial"/>
              </a:rPr>
              <a:t>a</a:t>
            </a:r>
            <a:r>
              <a:rPr b="1" i="1" lang="en-US" sz="3600" spc="-1" strike="noStrike" baseline="30000">
                <a:solidFill>
                  <a:srgbClr val="fc2c1c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fc2c1c"/>
                </a:solidFill>
                <a:latin typeface="Arial"/>
              </a:rPr>
              <a:t> + b</a:t>
            </a:r>
            <a:r>
              <a:rPr b="1" i="1" lang="en-US" sz="3600" spc="-1" strike="noStrike" baseline="30000">
                <a:solidFill>
                  <a:srgbClr val="fc2c1c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fc2c1c"/>
                </a:solidFill>
                <a:latin typeface="Arial"/>
              </a:rPr>
              <a:t> = c</a:t>
            </a:r>
            <a:r>
              <a:rPr b="1" i="1" lang="en-US" sz="3600" spc="-1" strike="noStrike" baseline="30000">
                <a:solidFill>
                  <a:srgbClr val="fc2c1c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71800" y="3505320"/>
            <a:ext cx="2057400" cy="1143000"/>
          </a:xfrm>
          <a:prstGeom prst="rtTriangl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81280" y="43434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05320" y="3809880"/>
            <a:ext cx="3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05120" y="3505320"/>
            <a:ext cx="10666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32004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71800" y="3886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81080" y="37339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rea = b</a:t>
            </a:r>
            <a:r>
              <a:rPr b="1" lang="en-US" sz="1800" spc="-1" strike="noStrike" baseline="30000">
                <a:solidFill>
                  <a:srgbClr val="3366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971800" y="4648320"/>
            <a:ext cx="20574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76720" y="5410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rea = a</a:t>
            </a:r>
            <a:r>
              <a:rPr b="1" lang="en-US" sz="1800" spc="-1" strike="noStrike" baseline="30000">
                <a:solidFill>
                  <a:srgbClr val="3366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5334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727400">
            <a:off x="3330360" y="2149560"/>
            <a:ext cx="236196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36576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86200" y="2971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rea = c</a:t>
            </a:r>
            <a:r>
              <a:rPr b="1" lang="en-US" sz="1800" spc="-1" strike="noStrike" baseline="30000">
                <a:solidFill>
                  <a:srgbClr val="3366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71800" y="4419720"/>
            <a:ext cx="228600" cy="228600"/>
          </a:xfrm>
          <a:prstGeom prst="rect">
            <a:avLst/>
          </a:prstGeom>
          <a:solidFill>
            <a:srgbClr val="fc2c1c"/>
          </a:solidFill>
          <a:ln w="9360">
            <a:solidFill>
              <a:srgbClr val="fc2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Trebuchet MS"/>
              </a:rPr>
              <a:t>Assignment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800000"/>
                </a:solidFill>
                <a:latin typeface="Trebuchet MS"/>
              </a:rPr>
              <a:t>Handout sheet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800000"/>
                </a:solidFill>
                <a:latin typeface="Trebuchet MS"/>
              </a:rPr>
              <a:t>Page 482, Questions 1,2,4,5,6,7</a:t>
            </a:r>
            <a:br>
              <a:rPr sz="4000"/>
            </a:br>
            <a:endParaRPr b="0" i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3048120"/>
            <a:ext cx="4647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Trebuchet MS"/>
              </a:rPr>
              <a:t>Pythagorean theorem</a:t>
            </a:r>
            <a:endParaRPr b="0" i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3048120"/>
            <a:ext cx="4647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rcRect l="0" t="19300" r="0" b="0"/>
          <a:stretch/>
        </p:blipFill>
        <p:spPr>
          <a:xfrm>
            <a:off x="1219320" y="2743200"/>
            <a:ext cx="7315200" cy="3506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i="1" lang="en-US" sz="4800" spc="-1" strike="noStrike">
                <a:solidFill>
                  <a:srgbClr val="800000"/>
                </a:solidFill>
                <a:latin typeface="Trebuchet MS"/>
              </a:rPr>
              <a:t>Who was Pythagoras?</a:t>
            </a:r>
            <a:endParaRPr b="0" i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2959200" cy="3581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80880" y="2800440"/>
            <a:ext cx="4191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66ff"/>
                </a:solidFill>
                <a:latin typeface="Arial"/>
              </a:rPr>
              <a:t>Why all the fuss about s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66ff"/>
                </a:solidFill>
                <a:latin typeface="Arial"/>
              </a:rPr>
              <a:t>dead Greek gu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715000"/>
            <a:ext cx="33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85 or 565 - 500 B.C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86200" y="22824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Trebuchet MS"/>
              </a:rPr>
              <a:t>It all started with the Pyramids!</a:t>
            </a:r>
            <a:endParaRPr b="0" i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2362320"/>
            <a:ext cx="472428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A couple thousand years before Pythagoras, the Egyptians used a unique method to make sure the base of each pyramid was square.</a:t>
            </a:r>
            <a:r>
              <a:rPr b="1" i="1" lang="en-US" sz="36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04920" y="2971800"/>
            <a:ext cx="365760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800000"/>
                </a:solidFill>
                <a:latin typeface="Trebuchet MS"/>
              </a:rPr>
              <a:t>How NOT to build a pyramid…</a:t>
            </a:r>
            <a:endParaRPr b="0" i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057400" y="2362320"/>
            <a:ext cx="5257800" cy="3867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800000"/>
                </a:solidFill>
                <a:latin typeface="Trebuchet MS"/>
              </a:rPr>
              <a:t>Measuring a square corner using a …ROPE??</a:t>
            </a:r>
            <a:endParaRPr b="0" i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243828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The Egyptian engineers used a  rope tied together at the ends with 12 knots tied in equal distances around the r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2895480"/>
            <a:ext cx="2057400" cy="297180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5791320"/>
            <a:ext cx="15264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38680" y="5105520"/>
            <a:ext cx="15264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4419720"/>
            <a:ext cx="15264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3657600"/>
            <a:ext cx="15264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38680" y="2819520"/>
            <a:ext cx="15264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581280"/>
            <a:ext cx="15264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77120" y="4114800"/>
            <a:ext cx="15228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4724280"/>
            <a:ext cx="15228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96080" y="5791320"/>
            <a:ext cx="15264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38880" y="5181480"/>
            <a:ext cx="15264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5791320"/>
            <a:ext cx="15264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10280" y="5791320"/>
            <a:ext cx="15264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800000"/>
                </a:solidFill>
                <a:latin typeface="Trebuchet MS"/>
              </a:rPr>
              <a:t>Measuring a square corner using a …ROPE??</a:t>
            </a:r>
            <a:endParaRPr b="0" i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2666880"/>
            <a:ext cx="457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They knew that when the rope was shaped into a triangle with sides of 3, 4, and 5 it created a right angle between the sides of 3 and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2895480"/>
            <a:ext cx="2057400" cy="297180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38680" y="5791320"/>
            <a:ext cx="15264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38680" y="5105520"/>
            <a:ext cx="15264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38680" y="4419720"/>
            <a:ext cx="15264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38680" y="3657600"/>
            <a:ext cx="15264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38680" y="2819520"/>
            <a:ext cx="15264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95880" y="3581280"/>
            <a:ext cx="15264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4114800"/>
            <a:ext cx="15228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4724280"/>
            <a:ext cx="15228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96080" y="5791320"/>
            <a:ext cx="15264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38880" y="5181480"/>
            <a:ext cx="15264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5791320"/>
            <a:ext cx="15264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5791320"/>
            <a:ext cx="15264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5486400"/>
            <a:ext cx="38088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39400" y="5830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20080" y="4078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960" y="4078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800000"/>
                </a:solidFill>
                <a:latin typeface="Trebuchet MS"/>
              </a:rPr>
              <a:t>Important term…</a:t>
            </a:r>
            <a:endParaRPr b="0" i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24382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ff"/>
                </a:solidFill>
                <a:latin typeface="Arial"/>
              </a:rPr>
              <a:t>In a right angle triangle, the side of the triangle opposite the right angle is called the </a:t>
            </a:r>
            <a:r>
              <a:rPr b="1" i="1" lang="en-US" sz="3600" spc="-1" strike="noStrike">
                <a:solidFill>
                  <a:srgbClr val="fc2c1c"/>
                </a:solidFill>
                <a:latin typeface="Arial"/>
              </a:rPr>
              <a:t>hypotenuse</a:t>
            </a:r>
            <a:r>
              <a:rPr b="1" i="1" lang="en-US" sz="3600" spc="-1" strike="noStrike">
                <a:solidFill>
                  <a:srgbClr val="3366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2666880"/>
            <a:ext cx="2057400" cy="297180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5562720"/>
            <a:ext cx="15228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4876920"/>
            <a:ext cx="15228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4191120"/>
            <a:ext cx="15228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3429000"/>
            <a:ext cx="15228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2590920"/>
            <a:ext cx="15228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3352680"/>
            <a:ext cx="15228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86200"/>
            <a:ext cx="15228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4495680"/>
            <a:ext cx="15228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5562720"/>
            <a:ext cx="15228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4952880"/>
            <a:ext cx="15228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562720"/>
            <a:ext cx="15228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5562720"/>
            <a:ext cx="15228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5257800"/>
            <a:ext cx="38124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83240" y="327672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2c1c"/>
                </a:solidFill>
                <a:latin typeface="Arial"/>
              </a:rPr>
              <a:t>hypoten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666880"/>
            <a:ext cx="2057400" cy="2971800"/>
          </a:xfrm>
          <a:prstGeom prst="line">
            <a:avLst/>
          </a:prstGeom>
          <a:ln w="57240">
            <a:solidFill>
              <a:srgbClr val="fc2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6720" y="60199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le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5638680"/>
            <a:ext cx="2057400" cy="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066680" y="2666520"/>
            <a:ext cx="0" cy="297180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85800" y="5790960"/>
            <a:ext cx="1066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85800" y="464832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800000"/>
                </a:solidFill>
                <a:latin typeface="Trebuchet MS"/>
              </a:rPr>
              <a:t>Activity</a:t>
            </a:r>
            <a:endParaRPr b="0" i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2057400"/>
            <a:ext cx="784836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ff"/>
                </a:solidFill>
                <a:latin typeface="Arial"/>
              </a:rPr>
              <a:t>You will work in pair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ff"/>
                </a:solidFill>
                <a:latin typeface="Arial"/>
              </a:rPr>
              <a:t>You will nee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33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 </a:t>
            </a:r>
            <a:r>
              <a:rPr b="1" i="1" lang="en-US" sz="36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centimetre grid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33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 </a:t>
            </a:r>
            <a:r>
              <a:rPr b="1" i="1" lang="en-US" sz="36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sciss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Concept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Page 246,  Questions 1-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Trebuchet MS"/>
              </a:rPr>
              <a:t>So…who was Pythagoras?</a:t>
            </a:r>
            <a:br>
              <a:rPr sz="4000"/>
            </a:br>
            <a:endParaRPr b="0" i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1066680"/>
            <a:ext cx="5334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Greek – described as the first pure mathemetic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Lived ~ 2500 years ag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Led a secretive society, half scientific and         half religious, that he founded in what is now southern Ita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04920" y="2895480"/>
            <a:ext cx="2971800" cy="3581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00:44:39Z</dcterms:created>
  <dc:creator>Jeff Whipple</dc:creator>
  <dc:description/>
  <dc:language>en-US</dc:language>
  <cp:lastModifiedBy>Administrator</cp:lastModifiedBy>
  <dcterms:modified xsi:type="dcterms:W3CDTF">2006-07-25T01:16:29Z</dcterms:modified>
  <cp:revision>25</cp:revision>
  <dc:subject/>
  <dc:title>Representing Data</dc:title>
</cp:coreProperties>
</file>